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464B-A9BF-4730-8B0D-11D76B392E1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847C-FFE2-43EB-8E4A-6411A8A4D16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F8F-CD82-44DC-AFB8-650080E8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2E6-537E-4CCD-9EC0-E0FFD875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ED2-338E-440F-A993-B2F7FBAD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D27-4FC4-4795-90E9-E0D1A831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44E4-0541-443E-9642-C9004BD2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AE64-3FC3-4CC7-8F3B-7B0191DC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C201-9F78-4BBA-9134-A68760D3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0011-D885-4276-9063-F9D79292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981D-A1F8-4E53-8630-4CA00EE9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7586-9F48-4EF6-9FFA-C46A9BBA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3F3A-78BD-4531-8C41-E29EDC78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F55-E8A0-4D2F-A725-6681D191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D210-84B5-4325-B7EA-258DAF04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FD79-08B9-472D-936B-8AAD585A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02A0-2526-43A9-B52C-B84E9B1F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7D47-8529-4333-BA8A-A6E48716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1ECF-45E4-40DF-8028-D1DEFB07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41185-00D8-4862-BECD-2C4C7B83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1F07-2A8C-4BC0-8DBE-94775621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2237-3D88-4CE5-87F1-DF4F30A6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1311E-742A-4640-948C-E7D91219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908DB-7D9B-4D64-85C7-670090A0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CB8-DFCC-46C8-900E-2B9A6D8F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3D3B-B682-4714-9025-FB853A54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58C5A-D171-4AF6-BE0C-89E1CD8D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DF1C8-5CDC-4E5E-A455-380916B7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F717-7FA6-4F02-8BEF-E2E66031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687FD-244C-42BB-AA91-7B5431A5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8947-1EBA-4207-833A-13A527D2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87F7F-E562-48F6-B6C2-FC966B99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6D147-0EEE-4AE2-AA70-0309FCCF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09907-EF1B-463E-B479-D73E5388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F69F3-A899-4C98-AC34-822A3DE5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AFD-82CD-4922-ACE9-A0A4BE5C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7996E-B505-426E-AE22-8C30930D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27D2-1DFA-4154-836B-F200E11E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AF6BA-AC80-4253-988F-A2835EF1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1BAE4-79F5-401A-A676-C4A706A2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97F79-6868-4DAA-A9EC-C6DB94A0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CF628-C61C-47F3-B621-64CD231E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8BC53-708D-4AE7-87CE-AAAAAB3A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0B445-B769-4E03-B798-07101CDA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9659C-7B64-425C-8356-0F3ECFED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CBD24-263D-4AD1-83DE-28CADB27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3EE-FEED-48CF-B53C-B59A9DC2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36973-D2B8-4949-8F62-F73649BB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6247B-2BDC-4902-8D09-82A9A315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D6826-C3D7-419C-B229-4D8640CD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825B4-7664-4D4F-AF15-ECDAA831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5B87F-FBF4-45CB-9C3F-194AF83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36334-E41E-4BDC-9274-36F6830E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2DE65-D897-4117-8341-0E7F2F9B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D5E3B-6778-4BE2-90C5-23CE9F26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6BF21-EBFF-4A96-AB7B-CFE60833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E5FF7-6749-49E1-9567-4E2E9883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FCE-7C75-4A0A-9D69-0F8780B4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4E4B6-202A-4019-8741-5FEC1B16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0E38C-0A5D-403D-BAB9-E62B681A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DE337-F236-4798-81AB-68F8EA64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90865-AF69-4355-8AE6-82ABA5C2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0C980-270B-4915-AD60-F44646E1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E14B7-AEA7-4948-9047-C36587A1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D06DA-2055-42DF-9D53-4E133214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030D8-B469-439B-9C1A-6431F2E6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7E241-1A39-431D-AA3A-821DC51E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1E010-2CE6-417F-81F3-7F644AE0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6BA-59B9-416D-AB39-587897C1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0CEE0-BBDA-44A4-ABE7-F04F0C8C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9584A-8F34-499F-9D0F-A04E127B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1D9BF-2FA6-4157-8C82-63296F80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0852D-815B-4A39-BB2A-693657E7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87F14-A927-4822-8ACB-CCAD1940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4E8C1-774B-4F7B-A8B2-8A4E50D8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FD3F0-FF25-4CF1-B21D-6C3F2F07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2FF53-D4D8-4FDA-94D8-B2129EEB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EA64D-E6DB-4671-8096-391D3391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4C34A-939D-4270-894A-B2ADC4A0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F43-55B2-458C-8F6C-1EC40B76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782F6-F400-4B84-8299-A5233400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7D939-28EE-4645-99F8-642438A8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A8AA0-FE30-4BA5-95E9-E9382BB9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7A203-0137-45DA-9EA2-6AEA84DD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9E0A8-197D-4160-ACA2-5C76602D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95FB4-CFEE-4AEE-AA3B-B1C26584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A3A96-EF35-4D64-9899-1AAF3FA7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D5BA8-908C-41A1-A7B1-2ABA473A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967B4-6174-4734-BC96-C285B778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CBDD4-F1DC-4531-B4D4-9EF1C0A2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B1E-4ED8-412D-B9AD-DBDFD821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16BC3-EF31-437C-BAE8-2E7FDE93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26834-9372-48D4-A284-E263802B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7AD85-1DFC-4A49-9124-C86EB610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26B39-9048-4736-8FBF-FB051C6C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039AB-D0DE-43CF-8FDA-83E96809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85241-3707-4A25-9C3F-DF4ACB78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9FF05-867E-451D-A6CE-F0375CA1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C08D-1652-440F-AA65-4D2C89F24384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2FF6-D7A5-4F7C-A59C-9B5D225537C2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E6DC-2D5F-4FC4-9ADA-17FDD6A6275F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87B7-20DE-478D-9792-6AD18F17AC90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72A4-7484-4234-8E81-D4E067F40699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D39A-7336-4933-9E27-65D84D6E94CB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6ACA-0358-4F30-9B8A-C44E23E9D0EE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FB1D-A00D-4349-A526-CDEC299416E5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464646"/>
                </a:solidFill>
                <a:latin typeface="Lucida Sans Unicode"/>
              </a:rPr>
              <a:t>Standing on the shoulders of gia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Lets go to Tuva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Located in the south pacifi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A population of less than 13 000 peop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re is virtually no industry or incom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How do they surviv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http://t3.gstatic.com/images?q=tbn:ATZXbW4Ju2mCOM:http://www.gilat.com/data/uploads/elements/sat_high.png"/>
          <p:cNvPicPr/>
          <p:nvPr/>
        </p:nvPicPr>
        <p:blipFill>
          <a:blip r:embed="rId2"/>
          <a:stretch/>
        </p:blipFill>
        <p:spPr>
          <a:xfrm>
            <a:off x="4643280" y="3929040"/>
            <a:ext cx="3071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 satellite that orbits the earth in 24 hours, when over the equator, will always be over the same 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s the period of the orbit is dependent on the speed, and speed the depends on the radius, all geosynchronous orbits are in the same place above the earth in a band around the equ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labspace.open.ac.uk/file.php/2026/T175_8_001i.jpg"/>
          <p:cNvPicPr/>
          <p:nvPr/>
        </p:nvPicPr>
        <p:blipFill>
          <a:blip r:embed="rId2"/>
          <a:stretch/>
        </p:blipFill>
        <p:spPr>
          <a:xfrm>
            <a:off x="3357720" y="4643280"/>
            <a:ext cx="30002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Being on the equator it has jurisdiction over the space above it, which includes space for communication satelli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That, and any .tv web address is registered in Tuva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Your turn. Try the problems in 8C in your book, and worksheet #4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Tycho Brah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1546 –1601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His major contributions made were measurements of stars and plan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What set his work apart was the precision of his measurements, and the shear quantity of his observa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He also had a great assista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And he got his nose cut off in a figh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http://upload.wikimedia.org/wikipedia/commons/thumb/2/2b/Tycho_Brahe.JPG/250px-Tycho_Brahe.JPG"/>
          <p:cNvPicPr/>
          <p:nvPr/>
        </p:nvPicPr>
        <p:blipFill>
          <a:blip r:embed="rId2"/>
          <a:stretch/>
        </p:blipFill>
        <p:spPr>
          <a:xfrm>
            <a:off x="6072120" y="1857240"/>
            <a:ext cx="2381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Johannes Kepl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1571-163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Kepler was Brahe’s instrument maker and assista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Major work was in orbiting bod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Lucida Sans Unicode"/>
              </a:rPr>
              <a:t>Orbits are elliptic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Lucida Sans Unicode"/>
              </a:rPr>
              <a:t>Equal areas in equal tim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Lucida Sans Unicode"/>
              </a:rPr>
              <a:t>Period related to distanc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Also a great supporter of Galile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He came to within a paragraph of explaining the law of grav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6429240" y="2714760"/>
            <a:ext cx="1162080" cy="167616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Newton used Kepler’s observations and methods but used his recently invented calculus to identify a couple relationships for forces of 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Force </a:t>
            </a:r>
            <a:r>
              <a:rPr b="0" lang="en-NZ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mass of the two bodies (M and m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Force </a:t>
            </a:r>
            <a:r>
              <a:rPr b="0" lang="en-NZ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inverse of distance squa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 </a:t>
            </a: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Mm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 </a:t>
            </a: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1/r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Combined these equations give: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 </a:t>
            </a: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In order to make this a true equation a constant of </a:t>
            </a:r>
            <a:r>
              <a:rPr b="0" lang="en-NZ" sz="2700" spc="-1" strike="noStrike">
                <a:solidFill>
                  <a:srgbClr val="ff0000"/>
                </a:solidFill>
                <a:latin typeface="Lucida Sans Unicode"/>
              </a:rPr>
              <a:t>6.67*10</a:t>
            </a:r>
            <a:r>
              <a:rPr b="0" lang="en-NZ" sz="2700" spc="-1" strike="noStrike" baseline="30000">
                <a:solidFill>
                  <a:srgbClr val="ff0000"/>
                </a:solidFill>
                <a:latin typeface="Lucida Sans Unicode"/>
              </a:rPr>
              <a:t>-11</a:t>
            </a:r>
            <a:r>
              <a:rPr b="0" lang="en-NZ" sz="2700" spc="-1" strike="noStrike">
                <a:solidFill>
                  <a:srgbClr val="ff0000"/>
                </a:solidFill>
                <a:latin typeface="Lucida Sans Unicode"/>
              </a:rPr>
              <a:t>Nm</a:t>
            </a:r>
            <a:r>
              <a:rPr b="0" lang="en-NZ" sz="2700" spc="-1" strike="noStrike" baseline="30000">
                <a:solidFill>
                  <a:srgbClr val="ff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ff0000"/>
                </a:solidFill>
                <a:latin typeface="Lucida Sans Unicode"/>
              </a:rPr>
              <a:t>Kg</a:t>
            </a:r>
            <a:r>
              <a:rPr b="0" lang="en-NZ" sz="2700" spc="-1" strike="noStrike" baseline="30000">
                <a:solidFill>
                  <a:srgbClr val="ff0000"/>
                </a:solidFill>
                <a:latin typeface="Lucida Sans Unicode"/>
              </a:rPr>
              <a:t>-2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is used and given the symbol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M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3"/>
          <p:cNvSpPr/>
          <p:nvPr/>
        </p:nvSpPr>
        <p:spPr>
          <a:xfrm>
            <a:off x="3143160" y="4643280"/>
            <a:ext cx="2000520" cy="1071720"/>
          </a:xfrm>
          <a:prstGeom prst="rect">
            <a:avLst/>
          </a:prstGeom>
          <a:noFill/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068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Jimmy who is 85 kg and Sally who is 72 kg are 9.3 m apart on a dance floor and there is a force of attraction between them. If this force is only due to gravity what is it’s magnitud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3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NZ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GMm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M=85Kg, m=72Kg, r=9.3m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NZ" sz="23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3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NZ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(6.67*10</a:t>
            </a:r>
            <a:r>
              <a:rPr b="0" lang="en-NZ" sz="23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-11</a:t>
            </a:r>
            <a:r>
              <a:rPr b="0" lang="en-NZ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Nm</a:t>
            </a:r>
            <a:r>
              <a:rPr b="0" lang="en-NZ" sz="23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2</a:t>
            </a:r>
            <a:r>
              <a:rPr b="0" lang="en-NZ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Kg</a:t>
            </a:r>
            <a:r>
              <a:rPr b="0" lang="en-NZ" sz="23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-2</a:t>
            </a:r>
            <a:r>
              <a:rPr b="0" lang="en-NZ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)(85Kg)(72Kg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(9.3m)</a:t>
            </a:r>
            <a:r>
              <a:rPr b="0" lang="en-NZ" sz="23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3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 = 4.71*10</a:t>
            </a:r>
            <a:r>
              <a:rPr b="0" lang="en-NZ" sz="2300" spc="-1" strike="noStrike" baseline="30000">
                <a:solidFill>
                  <a:srgbClr val="000000"/>
                </a:solidFill>
                <a:latin typeface="Lucida Sans Unicode"/>
              </a:rPr>
              <a:t>-9 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da1f28"/>
                </a:solidFill>
                <a:latin typeface="Lucida Sans Unicode"/>
              </a:rPr>
              <a:t>*Very important – Distances are measured </a:t>
            </a:r>
            <a:r>
              <a:rPr b="0" lang="en-NZ" sz="2300" spc="-1" strike="noStrike">
                <a:solidFill>
                  <a:srgbClr val="da1f28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da1f28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da1f28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da1f28"/>
                </a:solidFill>
                <a:latin typeface="Lucida Sans Unicode"/>
              </a:rPr>
              <a:t>from the centre of an object*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n orbiting object has two forces acting on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1) The force of gravity as both objects have some m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2) As orbiting objects are following circles there is centripetal accel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Mm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and   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*v</a:t>
            </a:r>
            <a:r>
              <a:rPr b="0" lang="en-NZ" sz="27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   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6840" y="1480680"/>
            <a:ext cx="854388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Mm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and   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*v</a:t>
            </a:r>
            <a:r>
              <a:rPr b="0" lang="en-NZ" sz="27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   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Mm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*v</a:t>
            </a:r>
            <a:r>
              <a:rPr b="0" lang="en-NZ" sz="27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   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Some terms are repeated here, so by cancell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M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= v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This implies that the speed of an orbiting satellite is dependent only on its dist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7981920" y="4714920"/>
            <a:ext cx="1162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Lets go to Tuva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Located in the south pacifi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http://upload.wikimedia.org/wikipedia/commons/e/ed/LocationTuvalu.png"/>
          <p:cNvPicPr/>
          <p:nvPr/>
        </p:nvPicPr>
        <p:blipFill>
          <a:blip r:embed="rId2"/>
          <a:stretch/>
        </p:blipFill>
        <p:spPr>
          <a:xfrm>
            <a:off x="3429000" y="2428920"/>
            <a:ext cx="4861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20:18:24Z</dcterms:created>
  <dc:creator>rv</dc:creator>
  <dc:description/>
  <dc:language>en-US</dc:language>
  <cp:lastModifiedBy>rv</cp:lastModifiedBy>
  <dcterms:modified xsi:type="dcterms:W3CDTF">2010-04-21T23:18:53Z</dcterms:modified>
  <cp:revision>17</cp:revision>
  <dc:subject/>
  <dc:title>Orbital Motion</dc:title>
</cp:coreProperties>
</file>